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34F3-CC2E-4FBD-8EC3-0D7319CD8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04A8-3733-44D3-AEAB-4C15382939F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4EBB-6682-4CC2-BB15-4E6D02C51EA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Хэви - ме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0B32-3985-42FC-A755-F2058B1E275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5841-E0A8-48B6-86FA-CA30C8455D5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81B5-72AF-468C-AEDA-DD4C2C797FF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DC8-6A06-44CF-9344-01DA465193D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A2F7-EC8D-48C7-92C3-71F1EED1643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а и алеато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0325-761C-47A5-B154-515D40F9681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A0C5-9B8F-4546-8DB7-2D1CBEEADCE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25BF-C1A7-43D4-AE8E-ACE46F102C2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jaz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EB66-D383-4703-A236-AEEDCAC2712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rock`n`roll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CE1F-21EB-467B-98F9-2176B26845C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 музыкальная 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 и фолк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country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folk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9577-5B81-4106-BCE2-EE2A1947A15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ок-оп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rock opera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598-9F75-413F-AA7A-A5E58BF7067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music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66F8-EC28-4265-A01B-D24CE57F502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lam rock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9EB2-DD85-435A-802D-2471A72236E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FBA9-6277-4F1B-A329-B227DE6F915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 вол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FCF-9358-400D-B66E-7B097FEB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01D-18D8-4D87-A533-26AB5719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16D-0F14-4BF9-B04B-73FC216F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B9B-5938-43F7-93C2-83556E31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2B99-55BB-42FE-B300-16C69F47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FA4B-82D6-4EEB-B00B-41FB276B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9756-12EC-4CFB-8744-B9F11C67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78CA-4579-4C07-B8F6-5C665C4D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8648-36B6-4AB2-941C-97FC29A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28A1-1A04-41B9-B940-251D45CD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00A2-FD11-4AD9-AD5D-F7A3F94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6F6-5BAC-44B8-85F5-3C7FC4EE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CC11-FAAD-461A-AFED-074E7FF3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C176-BA51-44DD-B4FD-DC7C9DE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5AAE-2C2B-4FF1-B125-EF44FEF4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E6AD-FAA4-4156-95A4-8D8A46C2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2FBD-58AB-4420-BCA0-836B5F6C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B73-5233-41F8-AD9F-43F1EF41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967-EA50-4E89-8E3B-23695B8F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A65-9913-4AD0-8BFF-1782C175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B51-257D-4FFF-9F68-CBBC70AC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A63-8486-4D89-9F4B-5A853A99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3F9-93D5-4F43-A008-457AB5A9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47D-545D-4A28-A145-929B8BA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5FBC-1A2A-4AB1-84EE-ACCCAE1F67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30A3-21B3-4919-A539-08277BABD41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215640"/>
            <a:ext cx="723888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5280" y="1736280"/>
            <a:ext cx="7308720" cy="18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МОЛОДЁЖНАЯ МУЗЫКАЛЬНАЯ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УЛЬТУР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63640" y="0"/>
            <a:ext cx="6046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униципальное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реднего общего образования  «Москаленский лицей»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оскаленского муниципального района Омской област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40360" y="4686480"/>
            <a:ext cx="4103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вторы работы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робьёв Н., Тебенко О., Коротина О., Баранов Е. (учащиеся 8 класса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уководитель: Баранова т.А.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читель музы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524720" y="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Приложение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987640" y="5997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Хэви - мета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heavy met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728720" y="508464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5" descr="IMG_0013"/>
          <p:cNvPicPr/>
          <p:nvPr/>
        </p:nvPicPr>
        <p:blipFill>
          <a:blip r:embed="rId1"/>
          <a:stretch/>
        </p:blipFill>
        <p:spPr>
          <a:xfrm>
            <a:off x="3851280" y="1989000"/>
            <a:ext cx="3456000" cy="28242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Поп-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pop music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5661000"/>
            <a:ext cx="73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5" descr="IMG_0014"/>
          <p:cNvPicPr/>
          <p:nvPr/>
        </p:nvPicPr>
        <p:blipFill>
          <a:blip r:embed="rId1"/>
          <a:stretch/>
        </p:blipFill>
        <p:spPr>
          <a:xfrm>
            <a:off x="5508720" y="2349360"/>
            <a:ext cx="3240000" cy="24973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2" name="Picture 6" descr="IMG_0015"/>
          <p:cNvPicPr/>
          <p:nvPr/>
        </p:nvPicPr>
        <p:blipFill>
          <a:blip r:embed="rId2"/>
          <a:stretch/>
        </p:blipFill>
        <p:spPr>
          <a:xfrm>
            <a:off x="2050920" y="1844640"/>
            <a:ext cx="2421000" cy="26654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эп </a:t>
            </a: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0360" y="551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5" descr="Копия IMG_0017"/>
          <p:cNvPicPr/>
          <p:nvPr/>
        </p:nvPicPr>
        <p:blipFill>
          <a:blip r:embed="rId1"/>
          <a:stretch/>
        </p:blipFill>
        <p:spPr>
          <a:xfrm>
            <a:off x="6443640" y="1773360"/>
            <a:ext cx="2241720" cy="3024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8" name="Picture 6" descr="IMG_0017"/>
          <p:cNvPicPr/>
          <p:nvPr/>
        </p:nvPicPr>
        <p:blipFill>
          <a:blip r:embed="rId2"/>
          <a:stretch/>
        </p:blipFill>
        <p:spPr>
          <a:xfrm>
            <a:off x="2195640" y="1484280"/>
            <a:ext cx="2952720" cy="2855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280" y="549360"/>
            <a:ext cx="7380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ейв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ra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Picture 5" descr="IMG_0018"/>
          <p:cNvPicPr/>
          <p:nvPr/>
        </p:nvPicPr>
        <p:blipFill>
          <a:blip r:embed="rId1"/>
          <a:stretch/>
        </p:blipFill>
        <p:spPr>
          <a:xfrm>
            <a:off x="2050920" y="1916280"/>
            <a:ext cx="3121200" cy="21747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84" name="Picture 6" descr="Копия IMG_0018"/>
          <p:cNvPicPr/>
          <p:nvPr/>
        </p:nvPicPr>
        <p:blipFill>
          <a:blip r:embed="rId2"/>
          <a:stretch/>
        </p:blipFill>
        <p:spPr>
          <a:xfrm>
            <a:off x="5724360" y="2565360"/>
            <a:ext cx="3022920" cy="2171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Альтернативн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lternati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70200" y="537372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5" descr="IMG_0019"/>
          <p:cNvPicPr/>
          <p:nvPr/>
        </p:nvPicPr>
        <p:blipFill>
          <a:blip r:embed="rId1"/>
          <a:stretch/>
        </p:blipFill>
        <p:spPr>
          <a:xfrm>
            <a:off x="6732720" y="2060640"/>
            <a:ext cx="1581120" cy="2808360"/>
          </a:xfrm>
          <a:prstGeom prst="rect">
            <a:avLst/>
          </a:prstGeom>
          <a:ln w="572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0" name="Picture 6" descr="Копия IMG_0019"/>
          <p:cNvPicPr/>
          <p:nvPr/>
        </p:nvPicPr>
        <p:blipFill>
          <a:blip r:embed="rId2"/>
          <a:stretch/>
        </p:blipFill>
        <p:spPr>
          <a:xfrm>
            <a:off x="2195640" y="1844640"/>
            <a:ext cx="1868400" cy="2879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35280" y="475920"/>
            <a:ext cx="73087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Сонорика и алеатор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195640" y="1413000"/>
            <a:ext cx="633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404280"/>
            <a:ext cx="738036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узыкальный авангар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vant-gard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835280" y="5300640"/>
            <a:ext cx="730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5" descr="IMG_0020"/>
          <p:cNvPicPr/>
          <p:nvPr/>
        </p:nvPicPr>
        <p:blipFill>
          <a:blip r:embed="rId1"/>
          <a:stretch/>
        </p:blipFill>
        <p:spPr>
          <a:xfrm>
            <a:off x="4211640" y="2492280"/>
            <a:ext cx="2536920" cy="24307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25120" y="333000"/>
            <a:ext cx="74185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 в Росс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63640" y="1557360"/>
            <a:ext cx="406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408720" y="1700280"/>
            <a:ext cx="2735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6" descr="Копия IMG_0021"/>
          <p:cNvPicPr/>
          <p:nvPr/>
        </p:nvPicPr>
        <p:blipFill>
          <a:blip r:embed="rId1"/>
          <a:stretch/>
        </p:blipFill>
        <p:spPr>
          <a:xfrm>
            <a:off x="2484360" y="4581360"/>
            <a:ext cx="2567160" cy="2040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2411280" y="0"/>
            <a:ext cx="64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771640" y="692280"/>
            <a:ext cx="5640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Джаз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jaz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12" descr="IMG_0002"/>
          <p:cNvPicPr/>
          <p:nvPr/>
        </p:nvPicPr>
        <p:blipFill>
          <a:blip r:embed="rId1"/>
          <a:stretch/>
        </p:blipFill>
        <p:spPr>
          <a:xfrm>
            <a:off x="2124000" y="1628640"/>
            <a:ext cx="2881440" cy="223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18" name="Picture 13" descr="IMG_0004"/>
          <p:cNvPicPr/>
          <p:nvPr/>
        </p:nvPicPr>
        <p:blipFill>
          <a:blip r:embed="rId2"/>
          <a:stretch/>
        </p:blipFill>
        <p:spPr>
          <a:xfrm>
            <a:off x="5508720" y="2133720"/>
            <a:ext cx="3241440" cy="22190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19" name="Text Box 14"/>
          <p:cNvSpPr/>
          <p:nvPr/>
        </p:nvSpPr>
        <p:spPr>
          <a:xfrm>
            <a:off x="2556000" y="4941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7520" y="47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Рок-н-рол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rock`n`roll</a:t>
            </a: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4" descr="IMG_0006"/>
          <p:cNvPicPr/>
          <p:nvPr/>
        </p:nvPicPr>
        <p:blipFill>
          <a:blip r:embed="rId1"/>
          <a:stretch/>
        </p:blipFill>
        <p:spPr>
          <a:xfrm>
            <a:off x="5796000" y="2492280"/>
            <a:ext cx="3024000" cy="2259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24" name="Picture 5" descr="IMG_0005"/>
          <p:cNvPicPr/>
          <p:nvPr/>
        </p:nvPicPr>
        <p:blipFill>
          <a:blip r:embed="rId2"/>
          <a:stretch/>
        </p:blipFill>
        <p:spPr>
          <a:xfrm>
            <a:off x="2050920" y="2060640"/>
            <a:ext cx="3384720" cy="21700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2050920" y="508464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7520" y="620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антри-рок и фолк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ountry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folk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IMG_0007"/>
          <p:cNvPicPr/>
          <p:nvPr/>
        </p:nvPicPr>
        <p:blipFill>
          <a:blip r:embed="rId1"/>
          <a:stretch/>
        </p:blipFill>
        <p:spPr>
          <a:xfrm>
            <a:off x="2340000" y="2060640"/>
            <a:ext cx="2808360" cy="1950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0" name="Picture 5" descr="Копия IMG_0007"/>
          <p:cNvPicPr/>
          <p:nvPr/>
        </p:nvPicPr>
        <p:blipFill>
          <a:blip r:embed="rId2"/>
          <a:stretch/>
        </p:blipFill>
        <p:spPr>
          <a:xfrm>
            <a:off x="5796000" y="2565360"/>
            <a:ext cx="2879640" cy="1905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2411280" y="4724280"/>
            <a:ext cx="61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5640" y="549000"/>
            <a:ext cx="5297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ок-опер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rock opera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340000" y="4581360"/>
            <a:ext cx="597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Рисунок 4" descr="лицей032.jpg"/>
          <p:cNvPicPr/>
          <p:nvPr/>
        </p:nvPicPr>
        <p:blipFill>
          <a:blip r:embed="rId1"/>
          <a:stretch/>
        </p:blipFill>
        <p:spPr>
          <a:xfrm>
            <a:off x="2124000" y="1916280"/>
            <a:ext cx="2592360" cy="21081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7" name="Рисунок 5" descr="лицей030.jpg"/>
          <p:cNvPicPr/>
          <p:nvPr/>
        </p:nvPicPr>
        <p:blipFill>
          <a:blip r:embed="rId2"/>
          <a:stretch/>
        </p:blipFill>
        <p:spPr>
          <a:xfrm>
            <a:off x="5724360" y="2421000"/>
            <a:ext cx="2592720" cy="2112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7520" y="549360"/>
            <a:ext cx="738648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юзик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music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54200" y="544500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5" descr="IMG_0009"/>
          <p:cNvPicPr/>
          <p:nvPr/>
        </p:nvPicPr>
        <p:blipFill>
          <a:blip r:embed="rId1"/>
          <a:stretch/>
        </p:blipFill>
        <p:spPr>
          <a:xfrm>
            <a:off x="2627280" y="1989000"/>
            <a:ext cx="1565280" cy="3240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3" name="Picture 6" descr="Копия IMG_0009"/>
          <p:cNvPicPr/>
          <p:nvPr/>
        </p:nvPicPr>
        <p:blipFill>
          <a:blip r:embed="rId2"/>
          <a:stretch/>
        </p:blipFill>
        <p:spPr>
          <a:xfrm>
            <a:off x="6372360" y="1989000"/>
            <a:ext cx="2320920" cy="3314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7520" y="333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Глэм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lam rock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27280" y="52293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MG_0010"/>
          <p:cNvPicPr/>
          <p:nvPr/>
        </p:nvPicPr>
        <p:blipFill>
          <a:blip r:embed="rId1"/>
          <a:stretch/>
        </p:blipFill>
        <p:spPr>
          <a:xfrm>
            <a:off x="5580000" y="2276640"/>
            <a:ext cx="3024360" cy="286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9" name="Picture 6" descr="Копия IMG_0010"/>
          <p:cNvPicPr/>
          <p:nvPr/>
        </p:nvPicPr>
        <p:blipFill>
          <a:blip r:embed="rId2"/>
          <a:stretch/>
        </p:blipFill>
        <p:spPr>
          <a:xfrm>
            <a:off x="2340000" y="1773360"/>
            <a:ext cx="214956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63280" y="549000"/>
            <a:ext cx="7380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Этническ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5" descr="IMG_0011"/>
          <p:cNvPicPr/>
          <p:nvPr/>
        </p:nvPicPr>
        <p:blipFill>
          <a:blip r:embed="rId1"/>
          <a:stretch/>
        </p:blipFill>
        <p:spPr>
          <a:xfrm>
            <a:off x="6300720" y="2276640"/>
            <a:ext cx="1995480" cy="25192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55" name="Picture 6" descr="Копия IMG_0011"/>
          <p:cNvPicPr/>
          <p:nvPr/>
        </p:nvPicPr>
        <p:blipFill>
          <a:blip r:embed="rId2"/>
          <a:stretch/>
        </p:blipFill>
        <p:spPr>
          <a:xfrm>
            <a:off x="2124000" y="1557360"/>
            <a:ext cx="3529080" cy="25668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7520" y="404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«Новая волна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new wave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35280" y="551664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5" descr="IMG_0012"/>
          <p:cNvPicPr/>
          <p:nvPr/>
        </p:nvPicPr>
        <p:blipFill>
          <a:blip r:embed="rId1"/>
          <a:stretch/>
        </p:blipFill>
        <p:spPr>
          <a:xfrm>
            <a:off x="6516720" y="2060640"/>
            <a:ext cx="234792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61" name="Picture 6" descr="Копия IMG_0012"/>
          <p:cNvPicPr/>
          <p:nvPr/>
        </p:nvPicPr>
        <p:blipFill>
          <a:blip r:embed="rId2"/>
          <a:stretch/>
        </p:blipFill>
        <p:spPr>
          <a:xfrm>
            <a:off x="2484360" y="1773360"/>
            <a:ext cx="1881360" cy="3384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51:35Z</dcterms:created>
  <dc:creator>Юлия</dc:creator>
  <dc:description/>
  <dc:language>en-US</dc:language>
  <cp:lastModifiedBy>LEGION</cp:lastModifiedBy>
  <dcterms:modified xsi:type="dcterms:W3CDTF">2015-04-02T07:04:46Z</dcterms:modified>
  <cp:revision>18</cp:revision>
  <dc:subject/>
  <dc:title>Семь рекреационных мест Омской области</dc:title>
</cp:coreProperties>
</file>